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445-AA91-4605-BD7B-459AEE05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183-9F75-4BA7-B5E5-9FDAE32A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06F-7634-443D-AADF-42826FEA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D07-FD17-49EC-AEEB-43366A3E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C644-31BA-4F93-BD6E-156388A0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C4F9-49F2-4ECF-BA01-8C1E70EF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2841-DA24-44FC-908A-A1A1D356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7FC6-4EBB-4244-86E9-94D7C35A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DD5F-C47A-4ABE-B671-610BDB6D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0B71-8253-42DE-9788-EB3EE116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EDC8-5F08-42EE-87B1-23668441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521-AB47-4541-B2C6-0F7CA8DC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8A01-C2B0-4BE2-A0E6-A044622A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E920-D5A2-4259-A7A3-5A42C101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C27F-CFCD-4343-9EB4-C68CD0FF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2BC0-21EF-4EE8-991D-A3E8AC40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19CE-0D89-4152-AC75-FC9B217C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7FA-DD67-4C26-A281-C88A2D34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889-2725-4CDC-98A0-B0735138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B82-E9ED-4DA4-98F6-C6BA4618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9D3-5EC9-402C-B33B-89AB8CFF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8B7-A90C-4E04-98D1-25D0F9AD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DE6-9FCE-4AEA-A902-6B5096E5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AE7-50A6-4E9C-80EB-1DCE1795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C070-4E9C-42C0-90CA-D1B8F96A017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DBA6-3F47-4160-AD23-0010C66D5B7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P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279080"/>
            <a:ext cx="8396280" cy="51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(7) Advocacy for mountain countries (IMD/ Establishment of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Alliance of mountainous count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(5) Strengthening capacity of national negotiations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Creation of grou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Trainin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Sustainabi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(11) Risk and Natural Hazards/disasters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Natural Hazards – nowad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Hydrom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Awareness rai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Calibri"/>
              </a:rPr>
              <a:t>Technical Infrastruc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Climate Change Impacts, Adaptation, and Development in Mountain Region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Dushanbe, Tajikistan,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18440" cy="725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What adaptation measures are needed to be taken?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toral approach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mergency (CoE, MoE) Preparedness to N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ater manag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gricul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es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Climate Change Impacts, Adaptation, and Development in Mountain Region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Dushanbe, Tajikistan,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How they can be reflected in International process?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laboration of NAPA (preparation 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bmission  of National Communication to the Secretari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bmission of NAPA to co-fund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Заголовок 1"/>
          <p:cNvSpPr/>
          <p:nvPr/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Climate Change Impacts, Adaptation, and Development in Mountain Region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Dushanbe, Tajikistan,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55:58Z</dcterms:created>
  <dc:creator>Admin</dc:creator>
  <dc:description/>
  <dc:language>en-US</dc:language>
  <cp:lastModifiedBy>Camp</cp:lastModifiedBy>
  <dcterms:modified xsi:type="dcterms:W3CDTF">2011-11-10T10:42:24Z</dcterms:modified>
  <cp:revision>15</cp:revision>
  <dc:subject/>
  <dc:title>Слайд 1</dc:title>
</cp:coreProperties>
</file>